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7C2B-24A7-4CD9-A688-8C17EE05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A868-85D3-4225-BECF-A0BCACD7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5554-6873-4579-A53F-F959A97C0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8056-C075-481F-84C0-9114D63A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E144-27EA-4228-82EA-02A3E426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DBCF-AD7C-4791-A54C-8E10CB7D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AAA5-D8BD-4EF6-A56B-97927ECA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FD6F-215F-4867-98D6-B7C35AF1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B984-6D0D-4A09-9259-42127143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9897-CB46-4145-8855-EB1A1F46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9979-B35C-4F3E-96A4-FA1F32DF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C928-873E-441B-9E58-27392808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2813-1B5A-49BF-A034-93EFE137C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2736720" cy="3200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6880" y="-76320"/>
            <a:ext cx="6553440" cy="38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uhaus 93"/>
              </a:rPr>
              <a:t>Lektion 5</a:t>
            </a:r>
            <a:r>
              <a:rPr b="1" lang="en-US" sz="2400" spc="-1" strike="noStrike">
                <a:solidFill>
                  <a:srgbClr val="cc3399"/>
                </a:solidFill>
                <a:latin typeface="Bauhaus 93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Bauhaus 9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Ü1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ook in the textbook on this same page and put an “x” next to the correct answers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Ü2. Introduce each of the children.  Follow the exam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Ü3. Use the words from the word bank to decide how to answer each ques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Ü4. To whom are these letters addressed?  Write your answers in your notebook.  Use the example sentences below as your gu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Ü5. What prefix or suffix is missing from each of these words?  You dec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Ü6. Calculate each of these math equations and fill in the chart. Ü7a.  Match the picture and work.  What is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Ü7. How old is each person?  Write the answers in your notebook in sentence form.  See the example about Frau Link at the end of the exerci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8120"/>
            <a:ext cx="9067680" cy="42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Ü8. What questions did the child ask?  Look at the answers on the right given by the man to decide.  Write the dialogue between these two in your noteboo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Ü9. From where do each of these children come?    Write a complete sentenc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Ü10. Who are these characters?  Which of the two activities are they doing?  Which one are they not doing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Ü11. Who are the people in each of these pictures?  Write down whom each picture shows and also who is not shown.  Follow the exampl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Ü12a. Which question word do you need?  Choo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Ü13b.  ABC – Re-read the questions you just created above in 12a and now write down the answers.  Check in your textbook for the information about these character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Ü14. Match the pictures with the correct lette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xercise W1: Select the words from the word bank above that fit in each of these categ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xercise W2: Which words belong together?  Match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xercise W3: Which verbs from the word bank above fit in each of these categor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8:27:52Z</dcterms:created>
  <dc:creator>udsd</dc:creator>
  <dc:description/>
  <dc:language>en-US</dc:language>
  <cp:lastModifiedBy>udsd</cp:lastModifiedBy>
  <dcterms:modified xsi:type="dcterms:W3CDTF">2010-05-07T17:05:16Z</dcterms:modified>
  <cp:revision>4</cp:revision>
  <dc:subject/>
  <dc:title>Slide 1</dc:title>
</cp:coreProperties>
</file>